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F951-14D7-4163-85D5-357F8461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2C42-A2C4-4BF0-81CE-3636F72A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D177-1D47-4414-A412-C7BBE2BB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577E-44C4-4FE9-93DB-54B7922B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7023-B74B-4E3B-9D2B-E8A9D165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649D-13C0-47F8-A5A3-DC6C38DB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C41D-AEFA-40C1-8335-E7698C8E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9964-246B-4CD3-B9EB-A17730FB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8D4C-B261-4025-AAC8-4730FE5C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CE26-75BD-4DBC-B4AF-A9C5344D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0D12-9B4C-46BB-B76A-9A5CCBE1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7013-926B-4766-9B96-49BA535D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F1E2-58A4-4018-8F5A-FB38668AA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88000" y="137160"/>
              <a:ext cx="101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846600" y="235044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3886200" y="36457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3897720" y="30362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99072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B: Identifying Trans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each is a translation, rotation, or ref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312408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ff"/>
                </a:solidFill>
                <a:latin typeface="Verdana"/>
              </a:rPr>
              <a:t>The figure is moved along a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4724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a trans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57200" y="2971800"/>
            <a:ext cx="3324240" cy="3114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3520" y="2819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3520" y="99072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C: Identifying Trans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each is a translation, rotation, or ref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31240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ff"/>
                </a:solidFill>
                <a:latin typeface="Verdana"/>
              </a:rPr>
              <a:t>The figure moves around a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51814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a r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80880" y="3276720"/>
            <a:ext cx="38671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99072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each is a translation, rotation, or ref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57600" y="310824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ff"/>
                </a:solidFill>
                <a:latin typeface="Verdana"/>
              </a:rPr>
              <a:t>The figure is flipped over a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42670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a ref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3429000"/>
            <a:ext cx="1066680" cy="220968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438280" y="3429000"/>
            <a:ext cx="914400" cy="220968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3124080"/>
            <a:ext cx="0" cy="297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33520" y="99072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each is a translation, rotation, or ref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86200" y="31240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ff"/>
                </a:solidFill>
                <a:latin typeface="Verdana"/>
              </a:rPr>
              <a:t>The figure moves around a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8769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a r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2895480"/>
            <a:ext cx="990720" cy="137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7174800">
            <a:off x="2400120" y="3467160"/>
            <a:ext cx="990720" cy="137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rot="19316400">
            <a:off x="2666880" y="2666520"/>
            <a:ext cx="304920" cy="609840"/>
          </a:xfrm>
          <a:custGeom>
            <a:avLst/>
            <a:gdLst>
              <a:gd name="textAreaLeft" fmla="*/ 0 w 304920"/>
              <a:gd name="textAreaRight" fmla="*/ 213840 w 30492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43280" y="41655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3520" y="99072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1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each is a translation, rotation, or ref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310824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ff"/>
                </a:solidFill>
                <a:latin typeface="Verdana"/>
              </a:rPr>
              <a:t>The figure is moved along a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43434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a trans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4880" y="3854520"/>
            <a:ext cx="1066680" cy="1143000"/>
          </a:xfrm>
          <a:prstGeom prst="su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981080" y="342900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438280" y="2362320"/>
            <a:ext cx="1067040" cy="1143000"/>
          </a:xfrm>
          <a:prstGeom prst="su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685800" y="1981080"/>
            <a:ext cx="4648320" cy="3130560"/>
            <a:chOff x="685800" y="1981080"/>
            <a:chExt cx="4648320" cy="3130560"/>
          </a:xfrm>
        </p:grpSpPr>
        <p:sp>
          <p:nvSpPr>
            <p:cNvPr id="191" name=""/>
            <p:cNvSpPr/>
            <p:nvPr/>
          </p:nvSpPr>
          <p:spPr>
            <a:xfrm>
              <a:off x="685800" y="1981080"/>
              <a:ext cx="4648320" cy="31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</a:rPr>
                <a:t>A full turn is a 360</a:t>
              </a:r>
              <a:r>
                <a:rPr b="0" lang="en-US" sz="3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rotation. So a     tur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s 90°, and a     tur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s 180°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3276720" y="2395440"/>
              <a:ext cx="1109520" cy="2178000"/>
              <a:chOff x="3276720" y="2395440"/>
              <a:chExt cx="1109520" cy="217800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3276720" y="3505320"/>
                <a:ext cx="838080" cy="1068120"/>
                <a:chOff x="3276720" y="3505320"/>
                <a:chExt cx="838080" cy="10681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3352680" y="3505320"/>
                  <a:ext cx="609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Verdana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3276720" y="3581280"/>
                  <a:ext cx="838080" cy="992160"/>
                  <a:chOff x="3276720" y="3581280"/>
                  <a:chExt cx="838080" cy="99216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3352680" y="3992040"/>
                    <a:ext cx="609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3276720" y="3581280"/>
                    <a:ext cx="83808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Verdana"/>
                      </a:rPr>
                      <a:t>__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3548160" y="2395440"/>
                <a:ext cx="838080" cy="1068840"/>
                <a:chOff x="3548160" y="2395440"/>
                <a:chExt cx="838080" cy="10688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624120" y="2395440"/>
                  <a:ext cx="609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Verdana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3548160" y="2471760"/>
                  <a:ext cx="838080" cy="992520"/>
                  <a:chOff x="3548160" y="2471760"/>
                  <a:chExt cx="838080" cy="9925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3624120" y="2882880"/>
                    <a:ext cx="609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Verdana"/>
                      </a:rPr>
                      <a:t>4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548160" y="2471760"/>
                    <a:ext cx="83808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Verdana"/>
                      </a:rPr>
                      <a:t>__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03" name=""/>
          <p:cNvGrpSpPr/>
          <p:nvPr/>
        </p:nvGrpSpPr>
        <p:grpSpPr>
          <a:xfrm>
            <a:off x="5585040" y="2567160"/>
            <a:ext cx="1891440" cy="1656720"/>
            <a:chOff x="5585040" y="2567160"/>
            <a:chExt cx="1891440" cy="1656720"/>
          </a:xfrm>
        </p:grpSpPr>
        <p:sp>
          <p:nvSpPr>
            <p:cNvPr id="204" name=""/>
            <p:cNvSpPr/>
            <p:nvPr/>
          </p:nvSpPr>
          <p:spPr>
            <a:xfrm rot="44400">
              <a:off x="5623560" y="2578680"/>
              <a:ext cx="1830960" cy="158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5302800">
              <a:off x="5736960" y="2481120"/>
              <a:ext cx="1586880" cy="18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9966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553080" y="22096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335268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57960" y="3090960"/>
            <a:ext cx="533520" cy="53316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553080" y="3102120"/>
            <a:ext cx="152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6240" y="2819520"/>
            <a:ext cx="106632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99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81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90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4191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180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28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6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-152280" y="990720"/>
            <a:ext cx="9296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: Drawing Trans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raw each trans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Draw a 180° rotation about the point sh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2971800"/>
            <a:ext cx="4572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race the figure and the point of r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Place your pencil on the point of r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Rotate the figure 180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  <a:ea typeface="Arial"/>
              </a:rPr>
              <a:t>°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race the figure in its new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42800" y="2590920"/>
            <a:ext cx="1914480" cy="2085840"/>
          </a:xfrm>
          <a:prstGeom prst="rect">
            <a:avLst/>
          </a:prstGeom>
          <a:ln w="0">
            <a:noFill/>
          </a:ln>
        </p:spPr>
      </p:pic>
      <p:grpSp>
        <p:nvGrpSpPr>
          <p:cNvPr id="229" name=""/>
          <p:cNvGrpSpPr/>
          <p:nvPr/>
        </p:nvGrpSpPr>
        <p:grpSpPr>
          <a:xfrm>
            <a:off x="2209680" y="3733920"/>
            <a:ext cx="1752840" cy="2705040"/>
            <a:chOff x="2209680" y="3733920"/>
            <a:chExt cx="1752840" cy="2705040"/>
          </a:xfrm>
        </p:grpSpPr>
        <p:pic>
          <p:nvPicPr>
            <p:cNvPr id="230" name="" descr=""/>
            <p:cNvPicPr/>
            <p:nvPr/>
          </p:nvPicPr>
          <p:blipFill>
            <a:blip r:embed="rId4"/>
            <a:stretch/>
          </p:blipFill>
          <p:spPr>
            <a:xfrm>
              <a:off x="2209680" y="4524480"/>
              <a:ext cx="175284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438280" y="3733920"/>
              <a:ext cx="635040" cy="546120"/>
            </a:xfrm>
            <a:custGeom>
              <a:avLst/>
              <a:gdLst/>
              <a:ahLst/>
              <a:rect l="l" t="t" r="r" b="b"/>
              <a:pathLst>
                <a:path w="400" h="344">
                  <a:moveTo>
                    <a:pt x="0" y="8"/>
                  </a:moveTo>
                  <a:cubicBezTo>
                    <a:pt x="136" y="4"/>
                    <a:pt x="272" y="0"/>
                    <a:pt x="336" y="56"/>
                  </a:cubicBezTo>
                  <a:cubicBezTo>
                    <a:pt x="400" y="112"/>
                    <a:pt x="392" y="228"/>
                    <a:pt x="384" y="34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106668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: Drawing Trans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raw each trans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Draw a horizontal ref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62520" y="3143160"/>
            <a:ext cx="4572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race the figure and the line of ref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Fold along the line of ref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race the figure in its new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762120" y="3505320"/>
            <a:ext cx="1114200" cy="15714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981080" y="3352680"/>
            <a:ext cx="0" cy="16765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2209680" y="3556080"/>
            <a:ext cx="10670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33520" y="99072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raw each trans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Draw a 180° rotation about the point sh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2743200"/>
            <a:ext cx="4572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race the figure and the point of r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Place your pencil on the point of r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Rotate the figure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race the figure in its new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219680" y="4114800"/>
            <a:ext cx="1890360" cy="1523520"/>
            <a:chOff x="1219680" y="4114800"/>
            <a:chExt cx="1890360" cy="1523520"/>
          </a:xfrm>
        </p:grpSpPr>
        <p:sp>
          <p:nvSpPr>
            <p:cNvPr id="252" name=""/>
            <p:cNvSpPr/>
            <p:nvPr/>
          </p:nvSpPr>
          <p:spPr>
            <a:xfrm flipV="1">
              <a:off x="1695600" y="4494960"/>
              <a:ext cx="1414440" cy="114300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19680" y="4114800"/>
              <a:ext cx="91368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28600" y="3429000"/>
            <a:ext cx="1523880" cy="1114560"/>
            <a:chOff x="228600" y="3429000"/>
            <a:chExt cx="1523880" cy="1114560"/>
          </a:xfrm>
        </p:grpSpPr>
        <p:sp>
          <p:nvSpPr>
            <p:cNvPr id="255" name=""/>
            <p:cNvSpPr/>
            <p:nvPr/>
          </p:nvSpPr>
          <p:spPr>
            <a:xfrm>
              <a:off x="228600" y="3429000"/>
              <a:ext cx="1447920" cy="106668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00200" y="43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3520" y="99072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raw each trans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Draw a horizontal ref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2819520"/>
            <a:ext cx="4572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race the figure and the line of ref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Fold along the line of ref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race the figure in its new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343080" y="3575160"/>
            <a:ext cx="1295280" cy="1371600"/>
          </a:xfrm>
          <a:prstGeom prst="pentag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rot="5400000">
            <a:off x="2057400" y="3613320"/>
            <a:ext cx="1295280" cy="1295280"/>
          </a:xfrm>
          <a:prstGeom prst="pentagon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6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1857240" y="3429000"/>
            <a:ext cx="0" cy="16765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1143000"/>
            <a:ext cx="7467480" cy="51055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295280" y="2581920"/>
            <a:ext cx="678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Darius can jump 200 times, without a miss, during 20 minutes of jumping rope.  Nastassia can jump rope 100 times, without a miss, for 5 min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LaDarius maintains this rate for 25 minutes, how many jumps will he have in al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Nastassia says that if she maintains her rate for 25 minutes, LaDarius will have more jumps than her.  LaDarius says that he will have less umps in a 25-minute period. Who is correc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1141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1121400"/>
            <a:ext cx="7924680" cy="49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6720" indent="-396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ell whether the figure is translated, rotated, or reflec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raw a vertical reflection of the first figure in problem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215316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o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4300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14600" y="2894760"/>
            <a:ext cx="1219320" cy="838440"/>
          </a:xfrm>
          <a:custGeom>
            <a:avLst/>
            <a:gdLst>
              <a:gd name="textAreaLeft" fmla="*/ 268200 w 1219320"/>
              <a:gd name="textAreaRight" fmla="*/ 951120 w 1219320"/>
              <a:gd name="textAreaTop" fmla="*/ 184320 h 838440"/>
              <a:gd name="textAreaBottom" fmla="*/ 654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 rot="16147800">
            <a:off x="4076640" y="2780280"/>
            <a:ext cx="1218960" cy="838440"/>
          </a:xfrm>
          <a:custGeom>
            <a:avLst/>
            <a:gdLst>
              <a:gd name="textAreaLeft" fmla="*/ 267840 w 1218960"/>
              <a:gd name="textAreaRight" fmla="*/ 951120 w 1218960"/>
              <a:gd name="textAreaTop" fmla="*/ 184320 h 838440"/>
              <a:gd name="textAreaBottom" fmla="*/ 654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895480" y="4647600"/>
            <a:ext cx="1219320" cy="685800"/>
          </a:xfrm>
          <a:custGeom>
            <a:avLst/>
            <a:gdLst>
              <a:gd name="textAreaLeft" fmla="*/ 268200 w 1219320"/>
              <a:gd name="textAreaRight" fmla="*/ 951120 w 121932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895480" y="5410080"/>
            <a:ext cx="1219320" cy="685800"/>
          </a:xfrm>
          <a:custGeom>
            <a:avLst/>
            <a:gdLst>
              <a:gd name="textAreaLeft" fmla="*/ 268200 w 1219320"/>
              <a:gd name="textAreaRight" fmla="*/ 951120 w 121932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use translations, reflections, and rotations to transform geometric shapes</a:t>
            </a:r>
            <a:r>
              <a:rPr b="0" lang="en-US" sz="3000" spc="-1" strike="noStrike">
                <a:solidFill>
                  <a:srgbClr val="000000"/>
                </a:solidFill>
                <a:latin typeface="AGaramond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828800"/>
            <a:ext cx="7162920" cy="32004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ne of 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76080" y="91080"/>
            <a:ext cx="46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13716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igi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ransform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oves a figure without changing its size or shape. So the original figure and the transformed figure are always congru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281952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llustrations of the alien will show three transformations: a translation, a rotation, and a reflection. Notice the transformed alien does not change in size or sh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47920" y="4495680"/>
            <a:ext cx="2162160" cy="190512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1676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rans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movement of a figure along a straight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1960" y="2819520"/>
            <a:ext cx="2162160" cy="1904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352680" y="2819520"/>
            <a:ext cx="2162160" cy="1904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172200" y="2819520"/>
            <a:ext cx="2162160" cy="1904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619360" y="3581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38880" y="3581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534996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the location of the figure changes with a trans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8380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otatio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movement of a figure around a point. A point of rotation can be on or outside a fig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286000" y="1676520"/>
            <a:ext cx="4362480" cy="4267080"/>
            <a:chOff x="2286000" y="1676520"/>
            <a:chExt cx="4362480" cy="426708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286000" y="1676520"/>
              <a:ext cx="216216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276720" y="4419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3400" y="2133720"/>
              <a:ext cx="1066680" cy="838080"/>
            </a:xfrm>
            <a:custGeom>
              <a:avLst/>
              <a:gdLst/>
              <a:ahLst/>
              <a:rect l="l" t="t" r="r" b="b"/>
              <a:pathLst>
                <a:path w="672" h="528">
                  <a:moveTo>
                    <a:pt x="0" y="0"/>
                  </a:moveTo>
                  <a:cubicBezTo>
                    <a:pt x="208" y="4"/>
                    <a:pt x="416" y="8"/>
                    <a:pt x="528" y="96"/>
                  </a:cubicBezTo>
                  <a:cubicBezTo>
                    <a:pt x="640" y="184"/>
                    <a:pt x="656" y="356"/>
                    <a:pt x="672" y="52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4648320" y="3276720"/>
              <a:ext cx="2000160" cy="266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"/>
          <p:cNvSpPr/>
          <p:nvPr/>
        </p:nvSpPr>
        <p:spPr>
          <a:xfrm>
            <a:off x="762120" y="5562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ocation and position of a figure can change with a r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7938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a figure flips over a line, creating a mirror image, it is called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efle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 line the figure is flipped over is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line of refle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57913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ocation and position of a figure change with a ref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80880" y="2133720"/>
            <a:ext cx="8534160" cy="3848040"/>
            <a:chOff x="380880" y="2133720"/>
            <a:chExt cx="8534160" cy="3848040"/>
          </a:xfrm>
        </p:grpSpPr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380880" y="2514600"/>
              <a:ext cx="4762800" cy="19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6248520" y="2133720"/>
              <a:ext cx="2419200" cy="38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743200" y="2133720"/>
              <a:ext cx="0" cy="251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5866920" y="4038480"/>
              <a:ext cx="304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99072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A: Identifying Trans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each is a translation, rotation, or ref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35812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ff"/>
                </a:solidFill>
                <a:latin typeface="Verdana"/>
              </a:rPr>
              <a:t>The figure is flipped over a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5257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a ref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066680" y="3124080"/>
            <a:ext cx="1943280" cy="2781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5800" y="4543560"/>
            <a:ext cx="26668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22:17:35Z</dcterms:created>
  <dc:creator>Laurel Nissen</dc:creator>
  <dc:description/>
  <dc:language>en-US</dc:language>
  <cp:lastModifiedBy> </cp:lastModifiedBy>
  <dcterms:modified xsi:type="dcterms:W3CDTF">2010-03-04T14:45:55Z</dcterms:modified>
  <cp:revision>22</cp:revision>
  <dc:subject/>
  <dc:title>Slide 1</dc:title>
</cp:coreProperties>
</file>